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7.gif" ContentType="image/gif"/>
  <Override PartName="/ppt/media/image5.gif" ContentType="image/gif"/>
  <Override PartName="/ppt/media/image4.gif" ContentType="image/gif"/>
  <Override PartName="/ppt/media/image6.gif" ContentType="image/gif"/>
  <Override PartName="/ppt/media/bserie06.wav" ContentType="audio/x-wav"/>
  <Override PartName="/ppt/media/lzipup01.wav" ContentType="audio/x-wav"/>
  <Override PartName="/ppt/media/jetflyby2.wav" ContentType="audio/x-wav"/>
  <Override PartName="/ppt/media/caralarmoff.wav" ContentType="audio/x-wav"/>
  <Override PartName="/ppt/media/image15.gif" ContentType="image/gif"/>
  <Override PartName="/ppt/media/image14.gif" ContentType="image/gif"/>
  <Override PartName="/ppt/media/image9.gif" ContentType="image/gif"/>
  <Override PartName="/ppt/media/image13.gif" ContentType="image/gif"/>
  <Override PartName="/ppt/media/image11.gif" ContentType="image/gif"/>
  <Override PartName="/ppt/media/image2.gif" ContentType="image/gif"/>
  <Override PartName="/ppt/media/zipdn102.wav" ContentType="audio/x-wav"/>
  <Override PartName="/ppt/media/image12.jpeg" ContentType="image/jpeg"/>
  <Override PartName="/ppt/media/image10.gif" ContentType="image/gif"/>
  <Override PartName="/ppt/media/zapbig0g.wav" ContentType="audio/x-wav"/>
  <Override PartName="/ppt/media/image1.gif" ContentType="image/gif"/>
  <Override PartName="/ppt/media/image3.gif" ContentType="image/gif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367-D8E5-4B55-8D2E-619B1632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A91-5118-4090-A110-066D645F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576-29EC-42EA-9A3E-73CAA8E7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A9E-9B9E-4927-8F5F-D7A2FE24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B61-7EAA-4581-91C1-6922978E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224-CB8E-4A43-A32E-C9790AAF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272-141F-4144-8080-2C6BAA60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50D-F6D5-4023-A458-2F8027CD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5B8-4156-4EBC-94DF-A8BC55AF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A51-4301-4B99-83A2-D301480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45C-C837-4F4B-821E-DFF35A2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6E7-21A6-4190-AA32-BB1B687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98CC-BE18-4BBD-96E6-10462F4C9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audio" Target="../media/zapbig0g.wav"/><Relationship Id="rId11" Type="http://schemas.openxmlformats.org/officeDocument/2006/relationships/audio" Target="../media/caralarmoff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caralarmoff.wav"/><Relationship Id="rId14" Type="http://schemas.openxmlformats.org/officeDocument/2006/relationships/audio" Target="../media/zapbig0g.wav"/><Relationship Id="rId15" Type="http://schemas.openxmlformats.org/officeDocument/2006/relationships/audio" Target="../media/caralarmoff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caralarmoff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ighchime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lzipup01.wav"/><Relationship Id="rId6" Type="http://schemas.openxmlformats.org/officeDocument/2006/relationships/audio" Target="../media/l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2.jpeg"/><Relationship Id="rId5" Type="http://schemas.openxmlformats.org/officeDocument/2006/relationships/audio" Target="../media/highchime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lzipup01.wav"/><Relationship Id="rId9" Type="http://schemas.openxmlformats.org/officeDocument/2006/relationships/audio" Target="../media/l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lzipup01.wav"/><Relationship Id="rId6" Type="http://schemas.openxmlformats.org/officeDocument/2006/relationships/audio" Target="../media/l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lzipup01.wav"/><Relationship Id="rId6" Type="http://schemas.openxmlformats.org/officeDocument/2006/relationships/audio" Target="../media/l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91040" y="2598840"/>
            <a:ext cx="1384560" cy="199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aking small groups from large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6844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 Taylor, Steve, and Lucia are working on a school fund raiser. Two of the students must make phone calls for the fund raiser. How many different pairs can be made from Taylor, Steve, and Luci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9096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Use Taylor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0680" y="35114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aylor with St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4172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aylor with L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608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Steve, but only with someone he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53704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teve with L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9720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You can’t use Lucia, because she has been paired with bo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73520" y="2647800"/>
            <a:ext cx="57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바탕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07360" y="2779560"/>
            <a:ext cx="1461960" cy="1789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79960" y="2881440"/>
            <a:ext cx="1697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16680" y="1932120"/>
            <a:ext cx="1190520" cy="148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61120" y="1849320"/>
            <a:ext cx="949320" cy="1582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121520" y="1808280"/>
            <a:ext cx="1065240" cy="162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148600" y="1866960"/>
            <a:ext cx="995400" cy="152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aking small groups from large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684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 How many different groups of two letters can you make from A, B, C, and 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35116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Use A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440" y="2757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3080" y="2733840"/>
            <a:ext cx="17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 with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01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B, but only with a letter that it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2960" y="4165560"/>
            <a:ext cx="17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 with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6800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C, but only with a letter that it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1200" y="1857240"/>
            <a:ext cx="62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바탕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54280" y="2743200"/>
            <a:ext cx="17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 with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11560" y="418932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 with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544500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 with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59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You can’t use D, because it has been paired with a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aking small groups from large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684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. How many different groups of 3 letters can be formed from C, D, E, and F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5116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Use C fir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27576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, D, and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60680" y="2763720"/>
            <a:ext cx="21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, D, and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019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Next use D, but only with 2 letters that it has not been paired wi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2960" y="41655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, E, and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1200" y="1857240"/>
            <a:ext cx="62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바탕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932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You can’t use E or F, because they have been paired with all the other let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78440" y="2036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62600" y="2036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30920" y="2036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16880" y="202392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23000" y="2793960"/>
            <a:ext cx="21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, E, and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468440"/>
            <a:ext cx="74185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. In the morning, the temperature on the Celsius thermometer was -3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. The temperature went up to 20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. What was the change in temperatu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364520" y="1201680"/>
            <a:ext cx="1779480" cy="5656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838600"/>
            <a:ext cx="733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change in temperatu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790640" y="3270240"/>
                <a:ext cx="2430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2454120" y="335592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0040" y="3355920"/>
            <a:ext cx="55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22440" y="4316400"/>
                <a:ext cx="8715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192480" y="4157640"/>
                <a:ext cx="9176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10160" y="4437000"/>
            <a:ext cx="1881360" cy="242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68960" y="4929120"/>
            <a:ext cx="133488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541760"/>
            <a:ext cx="2316240" cy="231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68440"/>
            <a:ext cx="7418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. On July 21, 1992, the temperature on the Fahrenheit thermometer was 113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 in Phoenix, Arizona. The temperature on January 8 the same year was -8</a:t>
            </a:r>
            <a:r>
              <a:rPr b="1" lang="en-US" sz="2600" spc="-1" strike="noStrike" baseline="50000">
                <a:solidFill>
                  <a:srgbClr val="006600"/>
                </a:solidFill>
                <a:latin typeface="Times New Roman"/>
                <a:ea typeface="Times New Roman"/>
              </a:rPr>
              <a:t>o</a:t>
            </a: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. What was the change in temperatu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64520" y="1201680"/>
            <a:ext cx="1779480" cy="5656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510000"/>
            <a:ext cx="733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change in temperatu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95320" y="3941640"/>
                <a:ext cx="26654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698920" y="4027320"/>
            <a:ext cx="55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4480" y="402732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46200" y="5010120"/>
                <a:ext cx="11001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483000" y="4851360"/>
                <a:ext cx="825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68440"/>
            <a:ext cx="5619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6. This number scale shows the heights of mountains and other places above and below sea level. Sea level is at 0 meters. The Dead Sea is at -340 m. What is the difference in altitude between the Dead Sea and Mt. Whitne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32240"/>
            <a:ext cx="515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differen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066680" y="4764240"/>
                <a:ext cx="3880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8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486160" y="4849920"/>
            <a:ext cx="55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1720" y="484992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63760" y="5702400"/>
                <a:ext cx="1787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330720" y="5826240"/>
                <a:ext cx="73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5359320" y="1401840"/>
            <a:ext cx="3983040" cy="4850280"/>
            <a:chOff x="5359320" y="1401840"/>
            <a:chExt cx="3983040" cy="4850280"/>
          </a:xfrm>
        </p:grpSpPr>
        <p:sp>
          <p:nvSpPr>
            <p:cNvPr id="120" name=""/>
            <p:cNvSpPr/>
            <p:nvPr/>
          </p:nvSpPr>
          <p:spPr>
            <a:xfrm>
              <a:off x="6019920" y="1935000"/>
              <a:ext cx="1766880" cy="3413160"/>
            </a:xfrm>
            <a:custGeom>
              <a:avLst/>
              <a:gdLst/>
              <a:ahLst/>
              <a:rect l="l" t="t" r="r" b="b"/>
              <a:pathLst>
                <a:path w="1113" h="2150">
                  <a:moveTo>
                    <a:pt x="0" y="2150"/>
                  </a:moveTo>
                  <a:lnTo>
                    <a:pt x="1113" y="2150"/>
                  </a:lnTo>
                  <a:lnTo>
                    <a:pt x="950" y="1450"/>
                  </a:lnTo>
                  <a:lnTo>
                    <a:pt x="796" y="1210"/>
                  </a:lnTo>
                  <a:lnTo>
                    <a:pt x="729" y="662"/>
                  </a:lnTo>
                  <a:lnTo>
                    <a:pt x="652" y="403"/>
                  </a:lnTo>
                  <a:lnTo>
                    <a:pt x="489" y="0"/>
                  </a:lnTo>
                  <a:lnTo>
                    <a:pt x="355" y="202"/>
                  </a:lnTo>
                  <a:lnTo>
                    <a:pt x="336" y="346"/>
                  </a:lnTo>
                  <a:lnTo>
                    <a:pt x="278" y="499"/>
                  </a:lnTo>
                  <a:lnTo>
                    <a:pt x="201" y="758"/>
                  </a:lnTo>
                  <a:lnTo>
                    <a:pt x="172" y="1075"/>
                  </a:lnTo>
                  <a:lnTo>
                    <a:pt x="115" y="1181"/>
                  </a:lnTo>
                  <a:lnTo>
                    <a:pt x="86" y="1402"/>
                  </a:lnTo>
                  <a:lnTo>
                    <a:pt x="19" y="1824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cffcc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33960" y="3002040"/>
              <a:ext cx="1738440" cy="2346120"/>
            </a:xfrm>
            <a:custGeom>
              <a:avLst/>
              <a:gdLst/>
              <a:ahLst/>
              <a:rect l="l" t="t" r="r" b="b"/>
              <a:pathLst>
                <a:path w="1095" h="1478">
                  <a:moveTo>
                    <a:pt x="0" y="1478"/>
                  </a:moveTo>
                  <a:lnTo>
                    <a:pt x="1095" y="1478"/>
                  </a:lnTo>
                  <a:lnTo>
                    <a:pt x="874" y="931"/>
                  </a:lnTo>
                  <a:lnTo>
                    <a:pt x="739" y="739"/>
                  </a:lnTo>
                  <a:lnTo>
                    <a:pt x="643" y="106"/>
                  </a:lnTo>
                  <a:lnTo>
                    <a:pt x="499" y="0"/>
                  </a:lnTo>
                  <a:lnTo>
                    <a:pt x="384" y="192"/>
                  </a:lnTo>
                  <a:lnTo>
                    <a:pt x="259" y="394"/>
                  </a:lnTo>
                  <a:lnTo>
                    <a:pt x="211" y="682"/>
                  </a:lnTo>
                  <a:lnTo>
                    <a:pt x="163" y="854"/>
                  </a:lnTo>
                  <a:lnTo>
                    <a:pt x="96" y="1267"/>
                  </a:lnTo>
                  <a:lnTo>
                    <a:pt x="0" y="1478"/>
                  </a:lnTo>
                  <a:close/>
                </a:path>
              </a:pathLst>
            </a:custGeom>
            <a:solidFill>
              <a:srgbClr val="ccffff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433760"/>
              <a:ext cx="1736640" cy="914400"/>
            </a:xfrm>
            <a:custGeom>
              <a:avLst/>
              <a:gdLst/>
              <a:ahLst/>
              <a:rect l="l" t="t" r="r" b="b"/>
              <a:pathLst>
                <a:path w="1094" h="576">
                  <a:moveTo>
                    <a:pt x="0" y="576"/>
                  </a:moveTo>
                  <a:lnTo>
                    <a:pt x="1094" y="576"/>
                  </a:lnTo>
                  <a:lnTo>
                    <a:pt x="921" y="375"/>
                  </a:lnTo>
                  <a:lnTo>
                    <a:pt x="796" y="308"/>
                  </a:lnTo>
                  <a:lnTo>
                    <a:pt x="758" y="221"/>
                  </a:lnTo>
                  <a:lnTo>
                    <a:pt x="700" y="164"/>
                  </a:lnTo>
                  <a:lnTo>
                    <a:pt x="662" y="77"/>
                  </a:lnTo>
                  <a:lnTo>
                    <a:pt x="537" y="0"/>
                  </a:lnTo>
                  <a:lnTo>
                    <a:pt x="441" y="29"/>
                  </a:lnTo>
                  <a:lnTo>
                    <a:pt x="384" y="87"/>
                  </a:lnTo>
                  <a:lnTo>
                    <a:pt x="307" y="164"/>
                  </a:lnTo>
                  <a:lnTo>
                    <a:pt x="240" y="260"/>
                  </a:lnTo>
                  <a:lnTo>
                    <a:pt x="163" y="404"/>
                  </a:lnTo>
                  <a:lnTo>
                    <a:pt x="76" y="50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fffcc">
                <a:alpha val="8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5334120"/>
              <a:ext cx="1752480" cy="395280"/>
            </a:xfrm>
            <a:custGeom>
              <a:avLst/>
              <a:gdLst/>
              <a:ahLst/>
              <a:rect l="l" t="t" r="r" b="b"/>
              <a:pathLst>
                <a:path w="1104" h="249">
                  <a:moveTo>
                    <a:pt x="0" y="0"/>
                  </a:moveTo>
                  <a:lnTo>
                    <a:pt x="1104" y="0"/>
                  </a:lnTo>
                  <a:lnTo>
                    <a:pt x="902" y="105"/>
                  </a:lnTo>
                  <a:lnTo>
                    <a:pt x="758" y="182"/>
                  </a:lnTo>
                  <a:lnTo>
                    <a:pt x="643" y="230"/>
                  </a:lnTo>
                  <a:lnTo>
                    <a:pt x="518" y="249"/>
                  </a:lnTo>
                  <a:lnTo>
                    <a:pt x="336" y="211"/>
                  </a:lnTo>
                  <a:lnTo>
                    <a:pt x="153" y="163"/>
                  </a:lnTo>
                  <a:lnTo>
                    <a:pt x="5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>
                <a:alpha val="7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5348160"/>
              <a:ext cx="1752480" cy="184320"/>
            </a:xfrm>
            <a:custGeom>
              <a:avLst/>
              <a:gdLst/>
              <a:ahLst/>
              <a:rect l="l" t="t" r="r" b="b"/>
              <a:pathLst>
                <a:path w="1104" h="116">
                  <a:moveTo>
                    <a:pt x="0" y="0"/>
                  </a:moveTo>
                  <a:lnTo>
                    <a:pt x="1104" y="0"/>
                  </a:lnTo>
                  <a:lnTo>
                    <a:pt x="768" y="68"/>
                  </a:lnTo>
                  <a:lnTo>
                    <a:pt x="652" y="96"/>
                  </a:lnTo>
                  <a:lnTo>
                    <a:pt x="556" y="116"/>
                  </a:lnTo>
                  <a:lnTo>
                    <a:pt x="412" y="106"/>
                  </a:lnTo>
                  <a:lnTo>
                    <a:pt x="220" y="77"/>
                  </a:lnTo>
                  <a:lnTo>
                    <a:pt x="12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8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827760" y="1401840"/>
              <a:ext cx="0" cy="461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37240" y="19350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67480" y="301788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67480" y="44197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53080" y="5516640"/>
              <a:ext cx="59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97720" y="57294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83520" y="166212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McKin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81880" y="274320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hit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1880" y="3994200"/>
              <a:ext cx="166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ashing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32880" y="5075280"/>
              <a:ext cx="14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27960" y="5473800"/>
              <a:ext cx="161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th Vall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11920" y="5853240"/>
              <a:ext cx="161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d 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32680" y="5502240"/>
              <a:ext cx="4413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92800" y="5730840"/>
              <a:ext cx="53208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78480" y="170028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,194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8920" y="27669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,418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59320" y="41972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,917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0040" y="5111640"/>
              <a:ext cx="10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8920" y="53420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86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53000" y="5575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pplication: Number Sc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468440"/>
            <a:ext cx="561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7. How much lower is the Dead Sea than Death Valle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517840"/>
            <a:ext cx="515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90033"/>
                </a:solidFill>
                <a:uFillTx/>
                <a:latin typeface="Lucida Sans Unicode"/>
                <a:ea typeface="Lucida Sans Unicode"/>
              </a:rPr>
              <a:t>Subtract</a:t>
            </a:r>
            <a:r>
              <a:rPr b="1" lang="en-US" sz="26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 to find the differen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84240" y="2997360"/>
                <a:ext cx="35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060640" y="308304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16200" y="3083040"/>
            <a:ext cx="55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+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08200" y="3935520"/>
                <a:ext cx="1238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49480" y="4043520"/>
                <a:ext cx="73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4" name=""/>
          <p:cNvGrpSpPr/>
          <p:nvPr/>
        </p:nvGrpSpPr>
        <p:grpSpPr>
          <a:xfrm>
            <a:off x="5359320" y="1401840"/>
            <a:ext cx="3983040" cy="4850280"/>
            <a:chOff x="5359320" y="1401840"/>
            <a:chExt cx="3983040" cy="4850280"/>
          </a:xfrm>
        </p:grpSpPr>
        <p:sp>
          <p:nvSpPr>
            <p:cNvPr id="155" name=""/>
            <p:cNvSpPr/>
            <p:nvPr/>
          </p:nvSpPr>
          <p:spPr>
            <a:xfrm>
              <a:off x="6019920" y="1935000"/>
              <a:ext cx="1766880" cy="3413160"/>
            </a:xfrm>
            <a:custGeom>
              <a:avLst/>
              <a:gdLst/>
              <a:ahLst/>
              <a:rect l="l" t="t" r="r" b="b"/>
              <a:pathLst>
                <a:path w="1113" h="2150">
                  <a:moveTo>
                    <a:pt x="0" y="2150"/>
                  </a:moveTo>
                  <a:lnTo>
                    <a:pt x="1113" y="2150"/>
                  </a:lnTo>
                  <a:lnTo>
                    <a:pt x="950" y="1450"/>
                  </a:lnTo>
                  <a:lnTo>
                    <a:pt x="796" y="1210"/>
                  </a:lnTo>
                  <a:lnTo>
                    <a:pt x="729" y="662"/>
                  </a:lnTo>
                  <a:lnTo>
                    <a:pt x="652" y="403"/>
                  </a:lnTo>
                  <a:lnTo>
                    <a:pt x="489" y="0"/>
                  </a:lnTo>
                  <a:lnTo>
                    <a:pt x="355" y="202"/>
                  </a:lnTo>
                  <a:lnTo>
                    <a:pt x="336" y="346"/>
                  </a:lnTo>
                  <a:lnTo>
                    <a:pt x="278" y="499"/>
                  </a:lnTo>
                  <a:lnTo>
                    <a:pt x="201" y="758"/>
                  </a:lnTo>
                  <a:lnTo>
                    <a:pt x="172" y="1075"/>
                  </a:lnTo>
                  <a:lnTo>
                    <a:pt x="115" y="1181"/>
                  </a:lnTo>
                  <a:lnTo>
                    <a:pt x="86" y="1402"/>
                  </a:lnTo>
                  <a:lnTo>
                    <a:pt x="19" y="1824"/>
                  </a:lnTo>
                  <a:lnTo>
                    <a:pt x="0" y="2150"/>
                  </a:lnTo>
                  <a:close/>
                </a:path>
              </a:pathLst>
            </a:custGeom>
            <a:solidFill>
              <a:srgbClr val="ccffcc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33960" y="3002040"/>
              <a:ext cx="1738440" cy="2346120"/>
            </a:xfrm>
            <a:custGeom>
              <a:avLst/>
              <a:gdLst/>
              <a:ahLst/>
              <a:rect l="l" t="t" r="r" b="b"/>
              <a:pathLst>
                <a:path w="1095" h="1478">
                  <a:moveTo>
                    <a:pt x="0" y="1478"/>
                  </a:moveTo>
                  <a:lnTo>
                    <a:pt x="1095" y="1478"/>
                  </a:lnTo>
                  <a:lnTo>
                    <a:pt x="874" y="931"/>
                  </a:lnTo>
                  <a:lnTo>
                    <a:pt x="739" y="739"/>
                  </a:lnTo>
                  <a:lnTo>
                    <a:pt x="643" y="106"/>
                  </a:lnTo>
                  <a:lnTo>
                    <a:pt x="499" y="0"/>
                  </a:lnTo>
                  <a:lnTo>
                    <a:pt x="384" y="192"/>
                  </a:lnTo>
                  <a:lnTo>
                    <a:pt x="259" y="394"/>
                  </a:lnTo>
                  <a:lnTo>
                    <a:pt x="211" y="682"/>
                  </a:lnTo>
                  <a:lnTo>
                    <a:pt x="163" y="854"/>
                  </a:lnTo>
                  <a:lnTo>
                    <a:pt x="96" y="1267"/>
                  </a:lnTo>
                  <a:lnTo>
                    <a:pt x="0" y="1478"/>
                  </a:lnTo>
                  <a:close/>
                </a:path>
              </a:pathLst>
            </a:custGeom>
            <a:solidFill>
              <a:srgbClr val="ccffff">
                <a:alpha val="7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19920" y="4433760"/>
              <a:ext cx="1736640" cy="914400"/>
            </a:xfrm>
            <a:custGeom>
              <a:avLst/>
              <a:gdLst/>
              <a:ahLst/>
              <a:rect l="l" t="t" r="r" b="b"/>
              <a:pathLst>
                <a:path w="1094" h="576">
                  <a:moveTo>
                    <a:pt x="0" y="576"/>
                  </a:moveTo>
                  <a:lnTo>
                    <a:pt x="1094" y="576"/>
                  </a:lnTo>
                  <a:lnTo>
                    <a:pt x="921" y="375"/>
                  </a:lnTo>
                  <a:lnTo>
                    <a:pt x="796" y="308"/>
                  </a:lnTo>
                  <a:lnTo>
                    <a:pt x="758" y="221"/>
                  </a:lnTo>
                  <a:lnTo>
                    <a:pt x="700" y="164"/>
                  </a:lnTo>
                  <a:lnTo>
                    <a:pt x="662" y="77"/>
                  </a:lnTo>
                  <a:lnTo>
                    <a:pt x="537" y="0"/>
                  </a:lnTo>
                  <a:lnTo>
                    <a:pt x="441" y="29"/>
                  </a:lnTo>
                  <a:lnTo>
                    <a:pt x="384" y="87"/>
                  </a:lnTo>
                  <a:lnTo>
                    <a:pt x="307" y="164"/>
                  </a:lnTo>
                  <a:lnTo>
                    <a:pt x="240" y="260"/>
                  </a:lnTo>
                  <a:lnTo>
                    <a:pt x="163" y="404"/>
                  </a:lnTo>
                  <a:lnTo>
                    <a:pt x="76" y="50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fffcc">
                <a:alpha val="80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5334120"/>
              <a:ext cx="1752480" cy="395280"/>
            </a:xfrm>
            <a:custGeom>
              <a:avLst/>
              <a:gdLst/>
              <a:ahLst/>
              <a:rect l="l" t="t" r="r" b="b"/>
              <a:pathLst>
                <a:path w="1104" h="249">
                  <a:moveTo>
                    <a:pt x="0" y="0"/>
                  </a:moveTo>
                  <a:lnTo>
                    <a:pt x="1104" y="0"/>
                  </a:lnTo>
                  <a:lnTo>
                    <a:pt x="902" y="105"/>
                  </a:lnTo>
                  <a:lnTo>
                    <a:pt x="758" y="182"/>
                  </a:lnTo>
                  <a:lnTo>
                    <a:pt x="643" y="230"/>
                  </a:lnTo>
                  <a:lnTo>
                    <a:pt x="518" y="249"/>
                  </a:lnTo>
                  <a:lnTo>
                    <a:pt x="336" y="211"/>
                  </a:lnTo>
                  <a:lnTo>
                    <a:pt x="153" y="163"/>
                  </a:lnTo>
                  <a:lnTo>
                    <a:pt x="57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>
                <a:alpha val="7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5348160"/>
              <a:ext cx="1752480" cy="184320"/>
            </a:xfrm>
            <a:custGeom>
              <a:avLst/>
              <a:gdLst/>
              <a:ahLst/>
              <a:rect l="l" t="t" r="r" b="b"/>
              <a:pathLst>
                <a:path w="1104" h="116">
                  <a:moveTo>
                    <a:pt x="0" y="0"/>
                  </a:moveTo>
                  <a:lnTo>
                    <a:pt x="1104" y="0"/>
                  </a:lnTo>
                  <a:lnTo>
                    <a:pt x="768" y="68"/>
                  </a:lnTo>
                  <a:lnTo>
                    <a:pt x="652" y="96"/>
                  </a:lnTo>
                  <a:lnTo>
                    <a:pt x="556" y="116"/>
                  </a:lnTo>
                  <a:lnTo>
                    <a:pt x="412" y="106"/>
                  </a:lnTo>
                  <a:lnTo>
                    <a:pt x="220" y="77"/>
                  </a:lnTo>
                  <a:lnTo>
                    <a:pt x="124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80000"/>
              </a:srgbClr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827760" y="1401840"/>
              <a:ext cx="0" cy="461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37240" y="19350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67480" y="301788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7480" y="44197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53080" y="5516640"/>
              <a:ext cx="594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97720" y="572940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83520" y="166212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McKinl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81880" y="2743200"/>
              <a:ext cx="18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hit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81880" y="3994200"/>
              <a:ext cx="166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t Washing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32880" y="5075280"/>
              <a:ext cx="14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27960" y="5473800"/>
              <a:ext cx="161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th Vall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853240"/>
              <a:ext cx="161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ad 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2680" y="5502240"/>
              <a:ext cx="4413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92800" y="5730840"/>
              <a:ext cx="53208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78480" y="170028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,194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8920" y="27669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,418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59320" y="41972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,917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0040" y="5111640"/>
              <a:ext cx="10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8920" y="53420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86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3000" y="5575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93, 11 – 9 #1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95, 11 – 10 #1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06/1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5-06T13:52:45Z</dcterms:modified>
  <cp:revision>111</cp:revision>
  <dc:subject/>
  <dc:title>Slide 1</dc:title>
</cp:coreProperties>
</file>